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A7FC-7476-4206-A8D4-E2E862C8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Cam – pgs 21 – 25 – list with parameters follo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-uity Yellow pamph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ore Produc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ion -- $1 Con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F47-54E4-4177-B9DB-7AB7E7CE3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Cam – pg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B84-8A6B-4C6E-A384-FEF015CD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E2E-AF55-4D94-817C-35007536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728-F6FE-4286-9763-29C1982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188-FFB5-44A1-A577-0F2BD5BB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964-0D58-4024-B0DA-B512795E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942-DE82-4CA4-8F19-3DDEDE4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1E0-C6C1-4D13-85E5-C3316EC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FEA-0C29-440E-A510-BFC17D87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875-768B-43A7-AE2B-213D0954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ABA-C3C4-4F46-94E0-E0D7B0A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5E8-4E22-4FB8-8599-B88C4CC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D57-23C9-41AC-8775-5D49064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9FD-A8D0-4388-9384-084A3D3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E09C-E5C0-4B8B-8869-F0753B81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iation through Me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The Power of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ila Mulb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d Springs Ele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Documents and Settings\NShannon\Application Data\Microsoft\Media Catalog\Downloaded Clips\cl0\fd01067_.wmf"/>
          <p:cNvPicPr/>
          <p:nvPr/>
        </p:nvPicPr>
        <p:blipFill>
          <a:blip r:embed="rId1"/>
          <a:stretch/>
        </p:blipFill>
        <p:spPr>
          <a:xfrm>
            <a:off x="3352680" y="380880"/>
            <a:ext cx="2027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’s look at some of the different types of menus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C:\Documents and Settings\125shannonn\Local Settings\Temporary Internet Files\Content.IE5\KSE8U0ZP\MCj03895100000[1].wmf"/>
          <p:cNvPicPr/>
          <p:nvPr/>
        </p:nvPicPr>
        <p:blipFill>
          <a:blip r:embed="rId1"/>
          <a:stretch/>
        </p:blipFill>
        <p:spPr>
          <a:xfrm>
            <a:off x="2743200" y="2590920"/>
            <a:ext cx="32767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-Tac-Toe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1523880"/>
            <a:ext cx="80773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8 choices plus one “free-choice” covering either one topic or three top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choose 3 projects completing a tic-tac-to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Each choice carries the same weight for grading – same level of diffic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Flexible (if one topic the tic-tac-toe pattern does not need to be required), friendly design, equal we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Few topics, student compromise (a student may feel forced to pick an activity in order to complete their tic-tac-to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1-3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Documents and Settings\NShannon\Application Data\Microsoft\Media Catalog\Downloaded Clips\cl0\dd00746_.wmf"/>
          <p:cNvPicPr/>
          <p:nvPr/>
        </p:nvPicPr>
        <p:blipFill>
          <a:blip r:embed="rId1"/>
          <a:stretch/>
        </p:blipFill>
        <p:spPr>
          <a:xfrm>
            <a:off x="914400" y="0"/>
            <a:ext cx="1454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22096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14400" y="1371600"/>
            <a:ext cx="7391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than the tic-tac-toe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at least 10 choices and one “free choice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Each choice has its own point value based on difficulty. Students must choose enough projects to total to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Responsibility, concept reinforcement (allows for in-depth study of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Few topics (best for one topic to be covered in depth), preparation (requires advanced pl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at most 2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NShannon\Application Data\Microsoft\Media Catalog\Downloaded Clips\cl64\j0250922.wmf"/>
          <p:cNvPicPr/>
          <p:nvPr/>
        </p:nvPicPr>
        <p:blipFill>
          <a:blip r:embed="rId1"/>
          <a:stretch/>
        </p:blipFill>
        <p:spPr>
          <a:xfrm>
            <a:off x="6553080" y="228600"/>
            <a:ext cx="1889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5-8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9480" y="1752480"/>
            <a:ext cx="7848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of the List 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two choices with a point-value of 2, four choices with a point-value of 5, and two choices with a point-value of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ng: Students must choose projects to a total of 10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: Responsibility, guarantee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One topic, no “Free Choice”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period: at most 1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C:\Documents and Settings\NShannon\Application Data\Microsoft\Media Catalog\Downloaded Clips\cl0\sy00689_.wmf"/>
          <p:cNvPicPr/>
          <p:nvPr/>
        </p:nvPicPr>
        <p:blipFill>
          <a:blip r:embed="rId1"/>
          <a:stretch/>
        </p:blipFill>
        <p:spPr>
          <a:xfrm>
            <a:off x="5334120" y="457200"/>
            <a:ext cx="892080" cy="101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NShannon\Application Data\Microsoft\Media Catalog\Downloaded Clips\cl0\sy00692_.wmf"/>
          <p:cNvPicPr/>
          <p:nvPr/>
        </p:nvPicPr>
        <p:blipFill>
          <a:blip r:embed="rId2"/>
          <a:stretch/>
        </p:blipFill>
        <p:spPr>
          <a:xfrm>
            <a:off x="6477120" y="457200"/>
            <a:ext cx="928440" cy="98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Documents and Settings\NShannon\Application Data\Microsoft\Media Catalog\Downloaded Clips\cl0\sy00695_.wmf"/>
          <p:cNvPicPr/>
          <p:nvPr/>
        </p:nvPicPr>
        <p:blipFill>
          <a:blip r:embed="rId3"/>
          <a:stretch/>
        </p:blipFill>
        <p:spPr>
          <a:xfrm>
            <a:off x="7696080" y="457200"/>
            <a:ext cx="9032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523880"/>
            <a:ext cx="7696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ng Instruction with Menus - Math/Science/Social Studies/Language 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Laurie Westp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ing Gifted Kids in the Regular Classro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usan Winebre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ccessful Teaching in the Differentiated Classro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rolyn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Differentiating Instruction With Menus Front Cover"/>
          <p:cNvPicPr/>
          <p:nvPr/>
        </p:nvPicPr>
        <p:blipFill>
          <a:blip r:embed="rId1"/>
          <a:stretch/>
        </p:blipFill>
        <p:spPr>
          <a:xfrm>
            <a:off x="3505320" y="4038480"/>
            <a:ext cx="1752480" cy="22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Teaching Gifted Kids in the Regular Classroom: Strategies and…"/>
          <p:cNvPicPr/>
          <p:nvPr/>
        </p:nvPicPr>
        <p:blipFill>
          <a:blip r:embed="rId2"/>
          <a:stretch/>
        </p:blipFill>
        <p:spPr>
          <a:xfrm>
            <a:off x="1143000" y="4572000"/>
            <a:ext cx="11095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uccessful Teaching in the Differentiated Classroom [Book]"/>
          <p:cNvPicPr/>
          <p:nvPr/>
        </p:nvPicPr>
        <p:blipFill>
          <a:blip r:embed="rId3"/>
          <a:stretch/>
        </p:blipFill>
        <p:spPr>
          <a:xfrm>
            <a:off x="6553080" y="4191120"/>
            <a:ext cx="140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what fits their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what fits their education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reater sense of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excited about thei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 more foc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apply the knowledge being presented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Documents and Settings\125shannonn\Local Settings\Temporary Internet Files\Content.IE5\KSE8U0ZP\MCj03974900000[1].wmf"/>
          <p:cNvPicPr/>
          <p:nvPr/>
        </p:nvPicPr>
        <p:blipFill>
          <a:blip r:embed="rId1"/>
          <a:stretch/>
        </p:blipFill>
        <p:spPr>
          <a:xfrm>
            <a:off x="5105520" y="1219320"/>
            <a:ext cx="1825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learning takes place when a student has a desire to learn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udents have a desire to learn anything that is new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only want to learn things of interest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offering different activities from which to choose teachers are able to create a desire to lear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125shannonn\Local Settings\Temporary Internet Files\Content.IE5\JS850FIX\MCj03974640000[1].wmf"/>
          <p:cNvPicPr/>
          <p:nvPr/>
        </p:nvPicPr>
        <p:blipFill>
          <a:blip r:embed="rId1"/>
          <a:stretch/>
        </p:blipFill>
        <p:spPr>
          <a:xfrm>
            <a:off x="7315200" y="4419720"/>
            <a:ext cx="1380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seek to satisfy our hunger when we look at a restaurant menu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2743200"/>
            <a:ext cx="3733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menus allow students to satisfy their hunger for lea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NShannon\Application Data\Microsoft\Media Catalog\Downloaded Clips\cla3\j0409833.wmf"/>
          <p:cNvPicPr/>
          <p:nvPr/>
        </p:nvPicPr>
        <p:blipFill>
          <a:blip r:embed="rId1"/>
          <a:stretch/>
        </p:blipFill>
        <p:spPr>
          <a:xfrm>
            <a:off x="5410080" y="2057400"/>
            <a:ext cx="29116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us offer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1333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ctivities for students to choose from to show what they have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ee-choice option for those students who want to place a “special order” for their learning ac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Documents and Settings\125shannonn\Local Settings\Temporary Internet Files\Content.IE5\JS850FIX\MCj03341500000[1].wmf"/>
          <p:cNvPicPr/>
          <p:nvPr/>
        </p:nvPicPr>
        <p:blipFill>
          <a:blip r:embed="rId1"/>
          <a:stretch/>
        </p:blipFill>
        <p:spPr>
          <a:xfrm>
            <a:off x="7238880" y="4343400"/>
            <a:ext cx="1216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you begin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828800" y="220968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students’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resources – how much information is readily available for students to u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your time constrai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781680" y="4267080"/>
            <a:ext cx="1451160" cy="154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7238880" y="1295280"/>
            <a:ext cx="76212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125shannonn\Local Settings\Temporary Internet Files\Content.IE5\TSH11UNS\MCj04123980000[1].wmf"/>
          <p:cNvPicPr/>
          <p:nvPr/>
        </p:nvPicPr>
        <p:blipFill>
          <a:blip r:embed="rId3"/>
          <a:stretch/>
        </p:blipFill>
        <p:spPr>
          <a:xfrm>
            <a:off x="0" y="2971800"/>
            <a:ext cx="17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use m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066680" y="198108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3 main ways to use menus in the classro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ichment/Supplementa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” Activities – Replacing direct t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-lessons followed by independent assessm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Documents and Settings\125shannonn\Local Settings\Temporary Internet Files\Content.IE5\8YFZVBKL\MCj04361610000[1].wmf"/>
          <p:cNvPicPr/>
          <p:nvPr/>
        </p:nvPicPr>
        <p:blipFill>
          <a:blip r:embed="rId1"/>
          <a:stretch/>
        </p:blipFill>
        <p:spPr>
          <a:xfrm>
            <a:off x="7010280" y="457200"/>
            <a:ext cx="18417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133720" y="274320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sth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Documents and Settings\125shannonn\Local Settings\Temporary Internet Files\Content.IE5\8YFZVBKL\MCj03974340000[1].wmf"/>
          <p:cNvPicPr/>
          <p:nvPr/>
        </p:nvPicPr>
        <p:blipFill>
          <a:blip r:embed="rId1"/>
          <a:stretch/>
        </p:blipFill>
        <p:spPr>
          <a:xfrm>
            <a:off x="4267080" y="4952880"/>
            <a:ext cx="97956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125shannonn\Local Settings\Temporary Internet Files\Content.IE5\JS850FIX\MCj03975020000[1].wmf"/>
          <p:cNvPicPr/>
          <p:nvPr/>
        </p:nvPicPr>
        <p:blipFill>
          <a:blip r:embed="rId2"/>
          <a:stretch/>
        </p:blipFill>
        <p:spPr>
          <a:xfrm>
            <a:off x="38098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125shannonn\Local Settings\Temporary Internet Files\Content.IE5\8YFZVBKL\MCj03975060000[1].wmf"/>
          <p:cNvPicPr/>
          <p:nvPr/>
        </p:nvPicPr>
        <p:blipFill>
          <a:blip r:embed="rId3"/>
          <a:stretch/>
        </p:blipFill>
        <p:spPr>
          <a:xfrm>
            <a:off x="5486400" y="3733920"/>
            <a:ext cx="89532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37160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us should include a variety of product choices that cover all three learning styl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Ch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838080" y="182880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enus allow for a “free choice” op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must submit a proposal for a “free choi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beginning menus hold a discussion with the class regarding “free choice” options and their expect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choice” proposals must be submit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v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s begin working on their pro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choice” proposal forms should be available to students. If approved, these can easily be stapled to the menu 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:\Documents and Settings\NShannon\Application Data\Microsoft\Media Catalog\Downloaded Clips\cl7\bd19984_.wmf"/>
          <p:cNvPicPr/>
          <p:nvPr/>
        </p:nvPicPr>
        <p:blipFill>
          <a:blip r:embed="rId1"/>
          <a:stretch/>
        </p:blipFill>
        <p:spPr>
          <a:xfrm>
            <a:off x="6858000" y="228600"/>
            <a:ext cx="16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3:31:02Z</dcterms:created>
  <dc:creator> </dc:creator>
  <dc:description/>
  <dc:language>en-US</dc:language>
  <cp:lastModifiedBy>Sheila</cp:lastModifiedBy>
  <dcterms:modified xsi:type="dcterms:W3CDTF">2010-08-20T03:02:48Z</dcterms:modified>
  <cp:revision>24</cp:revision>
  <dc:subject/>
  <dc:title>Differentiation through Menus    The Power of Choice</dc:title>
</cp:coreProperties>
</file>